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type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5378450" cy="71675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300" spc="-1" strike="noStrike">
              <a:solidFill>
                <a:srgbClr val="000000"/>
              </a:solidFill>
              <a:latin typeface="Alim2000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lim2000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lim2000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lim2000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36FE4-441C-4365-A62E-1986B6DCF574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lim20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1D502-E19A-4ACC-B49E-50C2A165982F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lim2000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A8645-300E-40FD-B58F-F2AFB7A26F35}" type="slidenum">
              <a:rPr b="0" lang="tr-T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lim2000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2F8B-4740-4A21-B01B-084E21262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7840" y="4144320"/>
            <a:ext cx="484020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3A4D-8E40-480B-B5F7-984034DF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48240" y="16729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7840" y="41443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48240" y="41443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4987-3F92-4DA0-8892-49E9D9C30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155844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04760" y="1672920"/>
            <a:ext cx="155844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41320" y="1672920"/>
            <a:ext cx="155844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7840" y="4144320"/>
            <a:ext cx="155844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04760" y="4144320"/>
            <a:ext cx="155844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41320" y="4144320"/>
            <a:ext cx="155844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5E31-282E-444E-9F65-17FD57454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F76A-1AA7-492F-BE50-57192A96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3DE-86F3-48BB-AE24-4A014E1D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236196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48240" y="1672920"/>
            <a:ext cx="236196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A0C8-D0A3-437C-B360-FB69639D5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5D81-AB62-4486-A26B-A095CAC1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7840" y="286920"/>
            <a:ext cx="4840200" cy="55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162D-AC3D-4980-9F03-EDD211EF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48240" y="1672920"/>
            <a:ext cx="236196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7840" y="41443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7E83-FA75-446D-A42F-9C5DE1AEB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236196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48240" y="16729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48240" y="41443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55AB-E67F-4520-9F4B-B44F03AA0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48240" y="1672920"/>
            <a:ext cx="236196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7840" y="4144320"/>
            <a:ext cx="4840200" cy="225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78EE-86B9-4134-8A26-0E9178D3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040" indent="-210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572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9700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3972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3972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39720" indent="-1713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8200" y="6526080"/>
            <a:ext cx="1255680" cy="5018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lim2000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36720" y="6526080"/>
            <a:ext cx="1703520" cy="5018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000000"/>
              </a:solidFill>
              <a:latin typeface="Alim2000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52720" y="6526080"/>
            <a:ext cx="1255680" cy="5018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0BFE-2B58-41C3-A585-4C7ED1F11712}" type="slidenum">
              <a:rPr b="0" lang="tr-TR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lim2000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17160" y="422280"/>
            <a:ext cx="4838760" cy="617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2400" spc="-1" strike="noStrike">
                <a:solidFill>
                  <a:srgbClr val="ff0000"/>
                </a:solidFill>
                <a:latin typeface="Times New Roman"/>
              </a:rPr>
              <a:t>            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2400" spc="-1" strike="noStrike">
                <a:solidFill>
                  <a:srgbClr val="ff3300"/>
                </a:solidFill>
                <a:latin typeface="Arial"/>
              </a:rPr>
              <a:t>DİKSİYON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2400" spc="-1" strike="noStrike">
                <a:solidFill>
                  <a:srgbClr val="ff3300"/>
                </a:solidFill>
                <a:latin typeface="Arial"/>
              </a:rPr>
              <a:t>V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2400" spc="-1" strike="noStrike">
                <a:solidFill>
                  <a:srgbClr val="ff3300"/>
                </a:solidFill>
                <a:latin typeface="Arial"/>
              </a:rPr>
              <a:t>ETKİLİ  KONUŞMA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2400" spc="-1" strike="noStrike">
                <a:solidFill>
                  <a:srgbClr val="ff3300"/>
                </a:solidFill>
                <a:latin typeface="Arial"/>
              </a:rPr>
              <a:t>Bölüm 1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2400" spc="-1" strike="noStrike">
                <a:solidFill>
                  <a:srgbClr val="ff3300"/>
                </a:solidFill>
                <a:latin typeface="Arial"/>
              </a:rPr>
              <a:t>DİKSİYON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Yuvarlatılmış Dikdörtgen 2" descr=""/>
          <p:cNvPicPr/>
          <p:nvPr/>
        </p:nvPicPr>
        <p:blipFill>
          <a:blip r:embed="rId1"/>
          <a:stretch/>
        </p:blipFill>
        <p:spPr>
          <a:xfrm>
            <a:off x="1968480" y="6559560"/>
            <a:ext cx="178128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"/>
    <p:sndAc>
      <p:stSnd>
        <p:snd r:embed="rId2" name="typ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tr-TR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tr-TR" sz="2800" spc="-1" strike="noStrike">
                <a:solidFill>
                  <a:srgbClr val="ff0066"/>
                </a:solidFill>
                <a:latin typeface="Arial"/>
              </a:rPr>
              <a:t>Sözün çıkışına ve anlamın gelişine göre ses tonunu ayarlamasını bilen, solunumu zamanında yapabilen bir konuşmacı, dinleyicileri etkileyebilir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tr-TR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tr-TR" sz="2800" spc="-1" strike="noStrike">
                <a:solidFill>
                  <a:srgbClr val="ff0066"/>
                </a:solidFill>
                <a:latin typeface="Arial"/>
              </a:rPr>
              <a:t>Solunum problemi olan konuşmalar, yavan ve sıkıcı olur.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tr-TR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Solunum yolları korun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Sigara içilmemeli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Çok sıcak ve çok soğuk içeceklerden uzak durul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Nefes burundan alınıp ağızdan verilmeli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Nefes, göğüsten değil diyaframdan alın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Nefes alırken zorlanma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tr-TR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Nefes, tam alın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Mide, çok doldurulma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Sakin ve gürültüsüz nefes alın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Gevşeme hareketleri yapıl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Üfleme hareketleri yapıl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Temiz ortamlarda nefes alıştırmaları yapılmalı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tr-TR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Soluk alma, akciğerlere havanın çekilmesidir. Konuşmada bu ilk aşamanın da büyük etkisi vardır. Soluğun, derin, sık, çabuk, düzenli, sinirlenmeden ve gürültüsüz alınmasına dikkat edilmelidir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3300" spc="-1" strike="noStrike">
                <a:solidFill>
                  <a:srgbClr val="333399"/>
                </a:solidFill>
                <a:latin typeface="Arial"/>
              </a:rPr>
              <a:t>KONUŞMA ÖNCESİ ALIŞTIRMALAR</a:t>
            </a:r>
            <a:br>
              <a:rPr sz="3300"/>
            </a:b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0">
              <a:spcBef>
                <a:spcPts val="60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● 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Omuzlar dik olacak şekilde geride nefes alınmalıdır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● 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Esneme hareketi yapılmalı, bu sırada karından gelen hareketlere de dikkat edilmelidir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62080" y="309600"/>
            <a:ext cx="4967280" cy="66038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99000"/>
          </a:bodyPr>
          <a:p>
            <a:pPr marL="25416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9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3600" spc="-1" strike="noStrike">
                <a:solidFill>
                  <a:srgbClr val="333399"/>
                </a:solidFill>
                <a:latin typeface="Arial"/>
              </a:rPr>
              <a:t>DİKSİYON</a:t>
            </a: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9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4160" indent="0" algn="ctr">
              <a:spcBef>
                <a:spcPts val="9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3399"/>
                </a:solidFill>
                <a:latin typeface="Arial"/>
              </a:rPr>
              <a:t>En kısa biçimiyle;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3399"/>
                </a:solidFill>
                <a:latin typeface="Arial"/>
              </a:rPr>
              <a:t>   </a:t>
            </a:r>
            <a:r>
              <a:rPr b="1" i="1" lang="tr-TR" sz="2400" spc="-1" strike="noStrike">
                <a:solidFill>
                  <a:srgbClr val="ff3399"/>
                </a:solidFill>
                <a:latin typeface="Arial"/>
              </a:rPr>
              <a:t>seslerin, sözlerin, ses ve söze yardımcı olan ögelerin yerli yerinde kullanılması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3399"/>
                </a:solidFill>
                <a:latin typeface="Arial"/>
              </a:rPr>
              <a:t>            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1" i="1" lang="tr-TR" sz="2400" spc="-1" strike="noStrike">
                <a:solidFill>
                  <a:srgbClr val="ff3399"/>
                </a:solidFill>
                <a:latin typeface="Arial"/>
              </a:rPr>
              <a:t>veya daha öz şekliyl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anlamlı ve alımlı söz söyleme sanatıdır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3200" spc="-1" strike="noStrike">
                <a:solidFill>
                  <a:srgbClr val="333399"/>
                </a:solidFill>
                <a:latin typeface="Arial"/>
              </a:rPr>
              <a:t>DİKSİYONUN AMAC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Dil malzemesinin doğru seçilmesi ve yerinde kullanılması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Seçilen dil malzemesinin doğru telâffuz edilmesi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Sesin ve konuşmayla ilgili diğer imkânların en verimli şekilde kullanılması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Ses organlarının etkili kullanılabilmesi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Vurgu, tonlama, durak gibi unsurların doğru kullanılması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Açık, anlaşılır, akıcı ve etkileyici bir şekilde konuşabilmek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lnSpc>
                <a:spcPct val="8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tr-TR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Duygu, düşünce ve amaçlarımızı arzu edilen bir tarzda ortaya koymak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Toplumda sevilen, sayılan bir kişi olmak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Karşımızdaki insanları etkilemek ve gerektiğinde yönlendirmek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tr-TR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Kişilik ve karakterimizi sağlamlaştırmak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Duygu, düşünce ve heyecanlarımızı başkalarıyla paylaşmak suretiyle psikolojik olarak rahatlamak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Karşımızdaki insanları etkili     bir şekilde dinleyerek, onların dertleriyle ilgilenmek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lang="tr-TR" sz="3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İnsanın konuşan bir canlı olmasını düşünerek, insan olmanın mutluluğunu yaşamak,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Bulunduğumuz her toplulukta varlığımızı hissettirmek..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3300" spc="-1" strike="noStrike">
                <a:solidFill>
                  <a:srgbClr val="000099"/>
                </a:solidFill>
                <a:latin typeface="Arial"/>
              </a:rPr>
              <a:t>DİKSİYON VE SESLER</a:t>
            </a:r>
            <a:br>
              <a:rPr sz="3300"/>
            </a:b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12480" y="2792160"/>
            <a:ext cx="4840200" cy="2127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89000"/>
          </a:bodyPr>
          <a:p>
            <a:pPr lvl="1" marL="492840" indent="-187560">
              <a:spcBef>
                <a:spcPts val="700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800" spc="-1" strike="noStrike">
                <a:solidFill>
                  <a:srgbClr val="ff0066"/>
                </a:solidFill>
                <a:latin typeface="Arial"/>
              </a:rPr>
              <a:t>Diksiyonun temelinde sesler bulunur.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2840" indent="-187560">
              <a:spcBef>
                <a:spcPts val="700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8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1" i="1" lang="tr-TR" sz="2800" spc="-1" strike="noStrike">
                <a:solidFill>
                  <a:srgbClr val="ff0066"/>
                </a:solidFill>
                <a:latin typeface="Arial"/>
              </a:rPr>
              <a:t>Bu sesler, gelişigüzel sesler değildir.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2840" indent="-187560">
              <a:spcBef>
                <a:spcPts val="700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800" spc="-1" strike="noStrike">
                <a:solidFill>
                  <a:srgbClr val="ff0066"/>
                </a:solidFill>
                <a:latin typeface="Arial"/>
              </a:rPr>
              <a:t>	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67840" y="286920"/>
            <a:ext cx="4840200" cy="1195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lang="tr-TR" sz="3300" spc="-1" strike="noStrike">
                <a:solidFill>
                  <a:srgbClr val="000099"/>
                </a:solidFill>
                <a:latin typeface="Arial"/>
              </a:rPr>
              <a:t>DİKSİYON </a:t>
            </a:r>
            <a:br>
              <a:rPr sz="3300"/>
            </a:br>
            <a:r>
              <a:rPr b="1" lang="tr-TR" sz="3300" spc="-1" strike="noStrike">
                <a:solidFill>
                  <a:srgbClr val="000099"/>
                </a:solidFill>
                <a:latin typeface="Arial"/>
              </a:rPr>
              <a:t>VE SOLUNUM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7840" y="1672920"/>
            <a:ext cx="4840200" cy="4730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Diksiyonda nefes alıp vermek çok önemlidir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Konuşurken yeteri kadar nefes almamak; sık sık ve derin nefes almak, sesin titrek çıkmasına yol açar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57040" indent="0">
              <a:spcBef>
                <a:spcPts val="60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i="1" lang="tr-TR" sz="2400" spc="-1" strike="noStrike">
                <a:solidFill>
                  <a:srgbClr val="ff0066"/>
                </a:solidFill>
                <a:latin typeface="Arial"/>
              </a:rPr>
              <a:t>Nefes alışın duyulması dinleyeni rahatsız eder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  <p:sndAc>
      <p:stSnd>
        <p:snd r:embed="rId1" name="typ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4T12:10:28Z</dcterms:created>
  <dc:creator>MY</dc:creator>
  <dc:description/>
  <dc:language>en-US</dc:language>
  <cp:lastModifiedBy>MEMED</cp:lastModifiedBy>
  <dcterms:modified xsi:type="dcterms:W3CDTF">2014-09-05T18:07:08Z</dcterms:modified>
  <cp:revision>170</cp:revision>
  <dc:subject/>
  <dc:title>Slayt 1</dc:title>
</cp:coreProperties>
</file>