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378450" cy="7167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427-BD43-4A7E-BF68-74472CE2367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6D74-F008-4A9C-9D9D-3F9366BFC8F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D58C-7719-4A9B-8853-F8BFEE86F0C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B1D-9955-4EA0-986A-A5C957EA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7840" y="41443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5F7-1B05-4F90-9ACD-3CB2308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482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619-F163-4691-89B4-123CA137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0476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4132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784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0476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4132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CB8-3820-48D3-B263-1A9BC39B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C4B-77F6-456A-868B-1F54816C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154-52F6-4D3C-B47E-C2CDA17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2B4-DC0A-430A-85B2-999529E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2FA-802B-47AF-AFB2-6D471475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7840" y="286920"/>
            <a:ext cx="48402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952-27B8-4098-AB51-CBDD3F8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FFA-A54A-458B-A858-395936C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82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37D-2522-4D9B-B8B7-96AFB1A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788-BB5B-4BF3-94DE-482504F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040" indent="-21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8200" y="6526080"/>
            <a:ext cx="125568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6720" y="6526080"/>
            <a:ext cx="170352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52720" y="6526080"/>
            <a:ext cx="125568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9B4-7769-436B-9563-9561C1F9D8DF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lim20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7160" y="422280"/>
            <a:ext cx="4838760" cy="61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DİKSİYON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V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ETKİLİ  KONUŞM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Bölüm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DİKSİY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Yuvarlatılmış Dikdörtgen 2" descr=""/>
          <p:cNvPicPr/>
          <p:nvPr/>
        </p:nvPicPr>
        <p:blipFill>
          <a:blip r:embed="rId1"/>
          <a:stretch/>
        </p:blipFill>
        <p:spPr>
          <a:xfrm>
            <a:off x="1968480" y="6559560"/>
            <a:ext cx="17812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Sözün çıkışına ve anlamın gelişine göre ses tonunu ayarlamasını bilen, solunumu zamanında yapabilen bir konuşmacı, dinleyicileri etkileyebilir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Solunum problemi olan konuşmalar, yavan ve sıkıcı olur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olunum yolları koru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igara içilmemeli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Çok sıcak ve çok soğuk içeceklerden uzak duru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burundan alınıp ağızdan verilmeli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, göğüsten değil diyaframdan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alırken zorlanma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, tam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Mide, çok doldurulma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akin ve gürültüsüz nefes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Gevşeme hareketleri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Üfleme hareketleri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Temiz ortamlarda nefes alıştırmaları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oluk alma, akciğerlere havanın çekilmesidir. Konuşmada bu ilk aşamanın da büyük etkisi vardır. Soluğun, derin, sık, çabuk, düzenli, sinirlenmeden ve gürültüsüz alınmasına dikkat edilmelidi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333399"/>
                </a:solidFill>
                <a:latin typeface="Arial"/>
              </a:rPr>
              <a:t>KONUŞMA ÖNCESİ ALIŞTIRMALAR</a:t>
            </a: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●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Omuzlar dik olacak şekilde geride nefes alınmalıdı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●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Esneme hareketi yapılmalı, bu sırada karından gelen hareketlere de dikkat edilmelidi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2080" y="309600"/>
            <a:ext cx="4967280" cy="6603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9000"/>
          </a:bodyPr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3600" spc="-1" strike="noStrike">
                <a:solidFill>
                  <a:srgbClr val="333399"/>
                </a:solidFill>
                <a:latin typeface="Arial"/>
              </a:rPr>
              <a:t>DİKSİY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En kısa biçimiyle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seslerin, sözlerin, ses ve söze yardımcı olan ögelerin yerli yerin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veya daha öz şekliyl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anlamlı ve alımlı söz söyleme sanatıdı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DİKSİYONUN AMAC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il malzemesinin doğru seçilmesi ve yerin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çilen dil malzemesinin doğru telâffuz edilmesi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sin ve konuşmayla ilgili diğer imkânların en verimli şekil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s organlarının etkili kullanılabilmesi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Vurgu, tonlama, durak gibi unsurların doğru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Açık, anlaşılır, akıcı ve etkileyici bir şekilde konuşabil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uygu, düşünce ve amaçlarımızı arzu edilen bir tarzda ortaya koy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Toplumda sevilen, sayılan bir kişi ol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arşımızdaki insanları etkilemek ve gerektiğinde yönlendir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işilik ve karakterimizi sağlamlaştır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uygu, düşünce ve heyecanlarımızı başkalarıyla paylaşmak suretiyle psikolojik olarak rahatla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arşımızdaki insanları etkili     bir şekilde dinleyerek, onların dertleriyle ilgilen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İnsanın konuşan bir canlı olmasını düşünerek, insan olmanın mutluluğunu yaşa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Bulunduğumuz her toplulukta varlığımızı hissettirmek..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DİKSİYON VE SESLER</a:t>
            </a: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2480" y="2792160"/>
            <a:ext cx="4840200" cy="212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9000"/>
          </a:bodyPr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Diksiyonun temelinde sesler bulunur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Bu sesler, gelişigüzel sesler değildir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DİKSİYON </a:t>
            </a:r>
            <a:br>
              <a:rPr sz="3300"/>
            </a:b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VE SOLUNU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iksiyonda nefes alıp vermek çok önemlidi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onuşurken yeteri kadar nefes almamak; sık sık ve derin nefes almak, sesin titrek çıkmasına yol aça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alışın duyulması dinleyeni rahatsız ede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10:28Z</dcterms:created>
  <dc:creator>MY</dc:creator>
  <dc:description/>
  <dc:language>en-US</dc:language>
  <cp:lastModifiedBy>MEMED</cp:lastModifiedBy>
  <dcterms:modified xsi:type="dcterms:W3CDTF">2014-09-05T18:07:08Z</dcterms:modified>
  <cp:revision>170</cp:revision>
  <dc:subject/>
  <dc:title>Slayt 1</dc:title>
</cp:coreProperties>
</file>